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991-2639-4EFE-9B00-48D5DF52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184-B6C6-49EC-A64D-0166FA59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30A-3861-4DC0-997D-CF686518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A3EC-CD24-44BF-B254-C26B8747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312A-1A21-4699-89CE-F7ABB93A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5DC19-4B0A-41E5-81C9-AC3A1C33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5D98-318E-4A88-B866-643C5D78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C9E1-6FA0-46DF-9604-CE0E95B1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B161-E6F0-48C6-B877-012D804E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BF74-EE0F-43D8-BEA6-9B546A2F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9ECC-CD64-4EC7-98D3-CE4039A6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6AD-8D56-4AFF-A844-A269271A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8916-A441-425B-AA19-29C2768F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6476-0A24-480C-A5F5-34A1F3DA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0042-26CF-427E-A774-1B9ECAC8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6C00-4330-41D1-9D98-5EC5AC0D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D7FF-5267-4674-BF44-B31CB252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0962B-16D4-4B4A-9614-CDBEA78F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EEF7D-8D1A-42F5-A711-C79D09ED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A56C4-A469-4D99-8C61-BAA5B27E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ABFFA-B8F9-4286-BE8E-D6E6D883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D17D2-FD92-44AD-AD21-3FD3A2B0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9C0-3E87-498D-B09C-5BEB5047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F1E53-A5AA-4D66-9DC6-836B86D4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7A152-0B6D-4405-AC7F-B09AD7F6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7E8B-A5FC-4656-8E7F-37C532A6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211D-8C07-4ADF-9B47-D7E6DCD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9D073-52D7-495F-8379-6EDF0A16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4DB3-802B-47D2-947F-DB0B87E1F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59EC7-DFD0-4F5B-AFB2-F62BF8FCD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4E78-D447-41BA-8345-81A66E0E6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447B6-B271-4BE7-B15B-73D7000D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F3D56-56A2-4F79-B9D6-A12FAD79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399-5AE1-4CA3-82B2-F4999689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0DD39-DACE-44DF-8972-2CB88591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DA11B-26F2-4E3E-A472-7DEE73B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216D-D2DA-4A25-B9D8-E21485AA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C2933-4B0D-48AE-9AE9-2148D1B0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489E0-C3E6-48E3-BA94-CC4F2008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122E9-CC25-4C32-8C32-96DCCA44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1545-648D-434D-9F3F-03DC65C8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9D98-1325-4A7C-A809-2AAADCD2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B327D-6A3C-43F8-B0E8-FB810BC52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AC4C5-8DA6-401C-AB91-EFA8B517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559-0307-4555-8F16-24FD65E0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4C19B-D518-4079-9B40-4D3F2F00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8A9B3-9DB8-47F8-BBC2-234ECB2E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C18B9-BFA4-40A4-8D14-8AB94129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D4E28-607A-4790-9E24-3C54077E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55D5E6-2162-4000-85F5-97352322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09701-FF8D-4A2F-A1C4-E24DA7D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9C436-FA4D-470F-81AF-751C9F48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663A3-4968-4F23-BD9C-6683AB2B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9F08F-D8E7-45C5-B0AF-8D90AD63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220E-0800-4F4D-A60D-EC4CA2E7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583B-25EE-480C-9634-2D4010EB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3FBEB-38AA-4013-AC4F-E9BAA627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0D2B6-1BAC-4060-8C41-F694C771C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9AE4D-8CFC-4673-A47A-BD99D2F3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2D6A5-A3AF-4F21-9BC1-F2BAFB4E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8EE6D-F84E-480B-8257-6C139F54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8B32C-30D6-4EBC-B54B-80DCE163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2C563-139F-4C32-8BAA-6B1B2BBC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9A6B0-4DC0-4C8E-82C1-29B6A42A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F168-7B26-4109-BEC5-C15C9EF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0E84D-937E-49F9-80B7-E8072E4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DD40-1332-4735-82C0-AAA271AD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26914-97DE-4A05-B263-02F5D960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D77E4-CAEA-4963-9A67-8C68FAA1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0D404-AE24-4CEC-BFAD-1660F436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F15A4-7A22-4C09-8099-EF4E648B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81DE8-6114-4641-B15C-897021E9B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FD38C-C902-4A04-8AE8-23B82C1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48F5E-658C-480F-B729-D2C69882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854DA-7336-44E0-8B2B-436A31E6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BFC96-97E5-4D4A-A404-0B4D94D2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2DDE1-986A-46E7-9F82-8F3BB4B5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E9F-8A28-426A-BB68-621C8E3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63782-3D8A-4623-AB96-11E7E74A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A30E-F216-4CA6-9522-C4841739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418E5-A8AC-4D31-8D30-EE334E97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C8DAB-F661-40C2-BA91-CA3DD13C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0A201F-AE7F-4854-BC95-7B779154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3C7-9FD3-4E85-8C82-78826FB4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6694-763C-4E2A-A3C1-2B24E7ED7865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직사각형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4AFC-9F95-4D16-AA6D-5AD45755F1AE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7774-0DD7-4C59-A090-44B8F77CC706}" type="slidenum">
              <a:rPr b="0" lang="ko-KR" sz="1200" spc="-1" strike="noStrike">
                <a:solidFill>
                  <a:srgbClr val="fffff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3975-AEFE-4CFD-AB7E-3ACE4EBEDA4A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직사각형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270F-085F-4F7E-8A17-7A56573F92E8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직사각형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직사각형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직사각형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직사각형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EE4E-B539-415C-8C07-4522269E3D3F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직사각형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직사각형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3f3f3f"/>
                </a:solidFill>
                <a:latin typeface="Corbel"/>
                <a:ea typeface="HY엽서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0FD0-C8FD-4E24-AF2E-55D181637C78}" type="slidenum">
              <a:rPr b="0" lang="ko-KR" sz="1200" spc="-1" strike="noStrike">
                <a:solidFill>
                  <a:srgbClr val="3f3f3f"/>
                </a:solidFill>
                <a:latin typeface="Corbel"/>
                <a:ea typeface="HY엽서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1. Sample Types &amp; Considering Factors for Collec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Sample Types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physical conditions ; solid, liquid, or gas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representativeness; bulk, partial, or mixed sample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According to the conventional names; Rock, soil, stream water, groundwater, coal, plant, food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 essential requisite for the sample is the </a:t>
            </a:r>
            <a:r>
              <a:rPr b="1" lang="en-US" sz="1700" spc="-1" strike="noStrike">
                <a:solidFill>
                  <a:srgbClr val="ff0000"/>
                </a:solidFill>
                <a:latin typeface="Corbel"/>
              </a:rPr>
              <a:t>representativeness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of the object of sampling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Then,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urpose of sampling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Budget  for  the analysis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Characteristics (Types) of the sample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VAN_VEEN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137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tools_vanveen_en_162213"/>
          <p:cNvPicPr/>
          <p:nvPr/>
        </p:nvPicPr>
        <p:blipFill>
          <a:blip r:embed="rId2"/>
          <a:stretch/>
        </p:blipFill>
        <p:spPr>
          <a:xfrm>
            <a:off x="179280" y="3860640"/>
            <a:ext cx="3048120" cy="2800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9" descr="alpinevirbracore2"/>
          <p:cNvPicPr/>
          <p:nvPr/>
        </p:nvPicPr>
        <p:blipFill>
          <a:blip r:embed="rId3"/>
          <a:stretch/>
        </p:blipFill>
        <p:spPr>
          <a:xfrm>
            <a:off x="3419640" y="2852640"/>
            <a:ext cx="2743200" cy="3505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1" descr="K-B"/>
          <p:cNvPicPr/>
          <p:nvPr/>
        </p:nvPicPr>
        <p:blipFill>
          <a:blip r:embed="rId4"/>
          <a:stretch/>
        </p:blipFill>
        <p:spPr>
          <a:xfrm>
            <a:off x="6227640" y="836640"/>
            <a:ext cx="25527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Mostly depends on the distribution of the sediment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y similar to the soil sample treatment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fraction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5. Rock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ock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Weather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in size: generally sample size should be 60 times larger than the grain size ex) &lt;1/16cm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 3*4*1 cm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ucture &amp; textur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Hamm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hiesle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2-2. Collection &amp; Pretreatment of Water Sample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Water samples?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urface water (Streams, lakes, springs, etc.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Groundwat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Meteoric water (rain, snow, fog, etc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rbel"/>
              </a:rPr>
              <a:t>Considering factors of water sampling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Variable properties responding to a number of surrounding conditions such as T, P, time, biota, geology, etc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25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rbel"/>
              </a:rPr>
              <a:t>Should consider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Water typ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arameters measured in the field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quired pretreat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Geological &amp; Hydrological condition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Temporal &amp; spatial varia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3" marL="1400040" indent="-457200">
              <a:lnSpc>
                <a:spcPct val="80000"/>
              </a:lnSpc>
              <a:spcBef>
                <a:spcPts val="349"/>
              </a:spcBef>
              <a:buClr>
                <a:srgbClr val="6bb76d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440"/>
            <a:ext cx="2890800" cy="1582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rbel"/>
              </a:rPr>
              <a:t>Methods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Scoo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Grab sampl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Bailor / Bomb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rbel"/>
              </a:rPr>
              <a:t>Pumping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76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www.korearth.net/lecture/geochem/gchem_anal/ch03/w_scoop.jpg"/>
          <p:cNvPicPr/>
          <p:nvPr/>
        </p:nvPicPr>
        <p:blipFill>
          <a:blip r:embed="rId2"/>
          <a:stretch/>
        </p:blipFill>
        <p:spPr>
          <a:xfrm>
            <a:off x="3419640" y="1773360"/>
            <a:ext cx="1285560" cy="1285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http://www.korearth.net/lecture/geochem/gchem_anal/ch03/bailer1.gif"/>
          <p:cNvPicPr/>
          <p:nvPr/>
        </p:nvPicPr>
        <p:blipFill>
          <a:blip r:embed="rId3"/>
          <a:stretch/>
        </p:blipFill>
        <p:spPr>
          <a:xfrm>
            <a:off x="3059280" y="2997360"/>
            <a:ext cx="1820520" cy="3698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8" descr="http://www.korearth.net/lecture/geochem/gchem_anal/ch03/w_bomb.gif"/>
          <p:cNvPicPr/>
          <p:nvPr/>
        </p:nvPicPr>
        <p:blipFill>
          <a:blip r:embed="rId4"/>
          <a:stretch/>
        </p:blipFill>
        <p:spPr>
          <a:xfrm>
            <a:off x="826920" y="3573360"/>
            <a:ext cx="2219400" cy="274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http://www.korearth.net/lecture/geochem/gchem_anal/ch03/s_pump2.jpg"/>
          <p:cNvPicPr/>
          <p:nvPr/>
        </p:nvPicPr>
        <p:blipFill>
          <a:blip r:embed="rId5"/>
          <a:stretch/>
        </p:blipFill>
        <p:spPr>
          <a:xfrm>
            <a:off x="6084720" y="3716280"/>
            <a:ext cx="2876760" cy="291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www.korearth.net/lecture/geochem/gchem_anal/ch03/w_grab.jpg"/>
          <p:cNvPicPr/>
          <p:nvPr/>
        </p:nvPicPr>
        <p:blipFill>
          <a:blip r:embed="rId6"/>
          <a:stretch/>
        </p:blipFill>
        <p:spPr>
          <a:xfrm>
            <a:off x="4859280" y="1844640"/>
            <a:ext cx="237672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7748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Pretreatment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Filt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Removal of SS &amp; (microbes),  with 0.1, 0.2 or 0.4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 pore membran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Acidific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Prohibiting pptn of the DS, with HNO3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Steriliz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Killing all the microbes, with HgCl2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buClr>
                <a:srgbClr val="e66c7d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rbel"/>
              </a:rPr>
              <a:t>Refrigeration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; Supress microbial activity at 4C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73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Picture 2" descr="http://www.korearth.net/lecture/geochem/gchem_anal/ch03/filter_app.jpg"/>
          <p:cNvPicPr/>
          <p:nvPr/>
        </p:nvPicPr>
        <p:blipFill>
          <a:blip r:embed="rId2"/>
          <a:stretch/>
        </p:blipFill>
        <p:spPr>
          <a:xfrm>
            <a:off x="1476360" y="3716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http://www.korearth.net/lecture/geochem/gchem_anal/ch03/hand_vac.jpg"/>
          <p:cNvPicPr/>
          <p:nvPr/>
        </p:nvPicPr>
        <p:blipFill>
          <a:blip r:embed="rId3"/>
          <a:stretch/>
        </p:blipFill>
        <p:spPr>
          <a:xfrm>
            <a:off x="4500720" y="3860640"/>
            <a:ext cx="39146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3. Soil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typ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profil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s &amp; local geology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lant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Land us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hovel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Aug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oil moistu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제목 3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hand1_l-soil-sampling-auger-water-level"/>
          <p:cNvPicPr/>
          <p:nvPr/>
        </p:nvPicPr>
        <p:blipFill>
          <a:blip r:embed="rId1"/>
          <a:stretch/>
        </p:blipFill>
        <p:spPr>
          <a:xfrm>
            <a:off x="250920" y="260280"/>
            <a:ext cx="4286160" cy="43243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10_b"/>
          <p:cNvPicPr/>
          <p:nvPr/>
        </p:nvPicPr>
        <p:blipFill>
          <a:blip r:embed="rId2"/>
          <a:stretch/>
        </p:blipFill>
        <p:spPr>
          <a:xfrm>
            <a:off x="395280" y="4000680"/>
            <a:ext cx="1905120" cy="28573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23_Soil-Sampling_3col"/>
          <p:cNvPicPr/>
          <p:nvPr/>
        </p:nvPicPr>
        <p:blipFill>
          <a:blip r:embed="rId3"/>
          <a:stretch/>
        </p:blipFill>
        <p:spPr>
          <a:xfrm>
            <a:off x="4714920" y="404640"/>
            <a:ext cx="4429080" cy="281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VL_sampler"/>
          <p:cNvPicPr/>
          <p:nvPr/>
        </p:nvPicPr>
        <p:blipFill>
          <a:blip r:embed="rId4"/>
          <a:stretch/>
        </p:blipFill>
        <p:spPr>
          <a:xfrm>
            <a:off x="3851280" y="3408480"/>
            <a:ext cx="5087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3. Sampling Desig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Barbell clust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Nested Cell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tratified vs. unstratified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3-4. Treatment of Soil Sampl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ry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ev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Removal of organic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ind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age008"/>
          <p:cNvPicPr/>
          <p:nvPr/>
        </p:nvPicPr>
        <p:blipFill>
          <a:blip r:embed="rId1"/>
          <a:stretch/>
        </p:blipFill>
        <p:spPr>
          <a:xfrm>
            <a:off x="684360" y="1989000"/>
            <a:ext cx="3744720" cy="3044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6" descr="mt89illust1"/>
          <p:cNvPicPr/>
          <p:nvPr/>
        </p:nvPicPr>
        <p:blipFill>
          <a:blip r:embed="rId2"/>
          <a:stretch/>
        </p:blipFill>
        <p:spPr>
          <a:xfrm>
            <a:off x="5364000" y="206064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328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rbel"/>
              </a:rPr>
              <a:t>3-4. Sediment Sample Collection &amp; Preparatio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1. General Considering Factor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patial (horizontal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Vertical (depth)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ize distribu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Temporal variation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Sedimentation mechanism (sedimentation media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Disturbance by sampling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Parental rock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rbel"/>
              </a:rPr>
              <a:t>3-4-2. Collection Method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Grab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ore sampler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rbel"/>
              </a:rPr>
              <a:t>Customized personalized devices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80000"/>
              </a:lnSpc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제목 3"/>
          <p:cNvSpPr/>
          <p:nvPr/>
        </p:nvSpPr>
        <p:spPr>
          <a:xfrm>
            <a:off x="457200" y="15552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c800"/>
                </a:solidFill>
                <a:latin typeface="Corbel"/>
                <a:ea typeface="HY엽서L"/>
              </a:rPr>
              <a:t>Ch. 3. SAMPLE COLLECTION &amp; TREATMENTS</a:t>
            </a:r>
            <a:endParaRPr b="0" lang="en-US" sz="4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1:44:53Z</dcterms:created>
  <dc:creator>user</dc:creator>
  <dc:description/>
  <dc:language>en-US</dc:language>
  <cp:lastModifiedBy>user</cp:lastModifiedBy>
  <dcterms:modified xsi:type="dcterms:W3CDTF">2011-11-14T23:57:18Z</dcterms:modified>
  <cp:revision>27</cp:revision>
  <dc:subject/>
  <dc:title>Ch. 2. BASICS of GEOCHEMICAL ANALYSIS</dc:title>
</cp:coreProperties>
</file>